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6E45-5015-46CB-8B38-830CBB86A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0B88-62C1-4B24-915C-80C1CBB8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C296-7F6B-4668-91C4-336DD16B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563E-AE38-491D-95C7-6AD8E986C9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B1E0-0A21-4D9D-803F-1482FF5D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A754-B151-421C-A723-A22781A3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41A0-304D-4D6F-8D63-60C1F56C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E69B-889E-4F70-B121-F6D1281E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3641-51FA-41CF-835C-4A36FE7D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DD9E-214B-469C-A6C3-213B4AB1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C7CC-5277-427A-AC0F-9562CEAB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1C5A-9B1B-4139-9E65-E046F3A9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E090-382D-48EE-BA7E-E4EDFADF3C4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4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2252" r="0" b="0"/>
          <a:stretch/>
        </p:blipFill>
        <p:spPr>
          <a:xfrm>
            <a:off x="152280" y="4232160"/>
            <a:ext cx="3581640" cy="2625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3CB1-BC9D-4697-9957-32CDA5D763D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E6FE-C5EB-497F-B57D-1902827B777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 &amp;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endel’s laws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gregatio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dependent assortmen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flect same laws of probability that apply to tossing coins or rolling dic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3762360" cy="2127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62760" y="457200"/>
            <a:ext cx="1876320" cy="389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155-F3CA-435F-9D9C-7B2CB78C82C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33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culating probability of making a specific gamete is just like calculating the probability in flipping a co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tossing heads?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0%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mak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amete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248520" y="4267080"/>
            <a:ext cx="2049480" cy="1752480"/>
            <a:chOff x="6248520" y="4267080"/>
            <a:chExt cx="2049480" cy="1752480"/>
          </a:xfrm>
        </p:grpSpPr>
        <p:grpSp>
          <p:nvGrpSpPr>
            <p:cNvPr id="109" name=""/>
            <p:cNvGrpSpPr/>
            <p:nvPr/>
          </p:nvGrpSpPr>
          <p:grpSpPr>
            <a:xfrm>
              <a:off x="6248520" y="4763880"/>
              <a:ext cx="838080" cy="838080"/>
              <a:chOff x="6248520" y="4763880"/>
              <a:chExt cx="838080" cy="838080"/>
            </a:xfrm>
          </p:grpSpPr>
          <p:sp>
            <p:nvSpPr>
              <p:cNvPr id="110" name=""/>
              <p:cNvSpPr/>
              <p:nvPr/>
            </p:nvSpPr>
            <p:spPr>
              <a:xfrm>
                <a:off x="6248520" y="47638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25920" y="49154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688520" y="4267080"/>
              <a:ext cx="609480" cy="609480"/>
              <a:chOff x="7688520" y="4267080"/>
              <a:chExt cx="609480" cy="609480"/>
            </a:xfrm>
          </p:grpSpPr>
          <p:sp>
            <p:nvSpPr>
              <p:cNvPr id="113" name=""/>
              <p:cNvSpPr/>
              <p:nvPr/>
            </p:nvSpPr>
            <p:spPr>
              <a:xfrm>
                <a:off x="7688520" y="42670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75640" y="42962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88520" y="5410080"/>
              <a:ext cx="609480" cy="609480"/>
              <a:chOff x="7688520" y="5410080"/>
              <a:chExt cx="609480" cy="609480"/>
            </a:xfrm>
          </p:grpSpPr>
          <p:sp>
            <p:nvSpPr>
              <p:cNvPr id="116" name=""/>
              <p:cNvSpPr/>
              <p:nvPr/>
            </p:nvSpPr>
            <p:spPr>
              <a:xfrm>
                <a:off x="7688520" y="54100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75640" y="54392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rot="1800000">
              <a:off x="7078320" y="53337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19800000">
              <a:off x="7078320" y="48002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248520" y="1676520"/>
            <a:ext cx="2049480" cy="1752480"/>
            <a:chOff x="6248520" y="1676520"/>
            <a:chExt cx="2049480" cy="1752480"/>
          </a:xfrm>
        </p:grpSpPr>
        <p:grpSp>
          <p:nvGrpSpPr>
            <p:cNvPr id="121" name=""/>
            <p:cNvGrpSpPr/>
            <p:nvPr/>
          </p:nvGrpSpPr>
          <p:grpSpPr>
            <a:xfrm>
              <a:off x="6248520" y="2173320"/>
              <a:ext cx="838080" cy="838080"/>
              <a:chOff x="6248520" y="2173320"/>
              <a:chExt cx="838080" cy="838080"/>
            </a:xfrm>
          </p:grpSpPr>
          <p:sp>
            <p:nvSpPr>
              <p:cNvPr id="122" name=""/>
              <p:cNvSpPr/>
              <p:nvPr/>
            </p:nvSpPr>
            <p:spPr>
              <a:xfrm>
                <a:off x="6248520" y="21733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35640" y="23248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688520" y="1676520"/>
              <a:ext cx="609480" cy="609480"/>
              <a:chOff x="7688520" y="1676520"/>
              <a:chExt cx="609480" cy="60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7688520" y="16765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75640" y="17056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688520" y="2819520"/>
              <a:ext cx="609480" cy="609480"/>
              <a:chOff x="7688520" y="2819520"/>
              <a:chExt cx="609480" cy="6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7688520" y="28195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785360" y="28486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rot="1800000">
              <a:off x="7078320" y="274320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19800000">
              <a:off x="7078320" y="220968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199360" y="2329920"/>
            <a:ext cx="94284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5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7320" y="4952520"/>
            <a:ext cx="115452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EE8B-F936-4980-AACE-D6590DEB4FA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utcome of 1 toss has no impact on the outcome of the next tos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tossing heads each tim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mak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amete each tim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934320" y="4343400"/>
            <a:ext cx="2049480" cy="1752480"/>
            <a:chOff x="6934320" y="4343400"/>
            <a:chExt cx="2049480" cy="1752480"/>
          </a:xfrm>
        </p:grpSpPr>
        <p:grpSp>
          <p:nvGrpSpPr>
            <p:cNvPr id="138" name=""/>
            <p:cNvGrpSpPr/>
            <p:nvPr/>
          </p:nvGrpSpPr>
          <p:grpSpPr>
            <a:xfrm>
              <a:off x="6934320" y="4840200"/>
              <a:ext cx="838080" cy="838080"/>
              <a:chOff x="6934320" y="4840200"/>
              <a:chExt cx="838080" cy="838080"/>
            </a:xfrm>
          </p:grpSpPr>
          <p:sp>
            <p:nvSpPr>
              <p:cNvPr id="139" name=""/>
              <p:cNvSpPr/>
              <p:nvPr/>
            </p:nvSpPr>
            <p:spPr>
              <a:xfrm>
                <a:off x="6934320" y="48402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21440" y="49917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374320" y="4343400"/>
              <a:ext cx="609480" cy="609480"/>
              <a:chOff x="8374320" y="4343400"/>
              <a:chExt cx="609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8374320" y="43434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61440" y="437256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8374320" y="5486400"/>
              <a:ext cx="609480" cy="609480"/>
              <a:chOff x="8374320" y="54864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8374320" y="54864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1160" y="551556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800000">
              <a:off x="7764120" y="541008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19800000">
              <a:off x="7764120" y="487656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01840" y="32760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1840" y="41904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1005120" cy="2013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A295-D80A-4406-88AE-DCB3D5814C0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81480" y="1981080"/>
            <a:ext cx="3886200" cy="47246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1523880"/>
            <a:ext cx="3886200" cy="457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3645000"/>
          <a:ext cx="2895840" cy="25272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rcRect l="47789" t="0" r="35681" b="82803"/>
          <a:stretch/>
        </p:blipFill>
        <p:spPr>
          <a:xfrm>
            <a:off x="1859040" y="3962520"/>
            <a:ext cx="753840" cy="834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47789" t="0" r="35681" b="82803"/>
          <a:stretch/>
        </p:blipFill>
        <p:spPr>
          <a:xfrm>
            <a:off x="3306600" y="3962520"/>
            <a:ext cx="754200" cy="834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47789" t="0" r="35681" b="82803"/>
          <a:stretch/>
        </p:blipFill>
        <p:spPr>
          <a:xfrm>
            <a:off x="1859040" y="5257800"/>
            <a:ext cx="753840" cy="835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67543" t="0" r="16570" b="82803"/>
          <a:stretch/>
        </p:blipFill>
        <p:spPr>
          <a:xfrm>
            <a:off x="3306600" y="5257800"/>
            <a:ext cx="727200" cy="835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47789" t="0" r="35681" b="82803"/>
          <a:stretch/>
        </p:blipFill>
        <p:spPr>
          <a:xfrm>
            <a:off x="3330720" y="1527120"/>
            <a:ext cx="753840" cy="835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47789" t="0" r="35681" b="82803"/>
          <a:stretch/>
        </p:blipFill>
        <p:spPr>
          <a:xfrm>
            <a:off x="2035080" y="1527120"/>
            <a:ext cx="754200" cy="835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culating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26800" y="1371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   x   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982520" y="2769120"/>
            <a:ext cx="1889280" cy="889200"/>
            <a:chOff x="1982520" y="2769120"/>
            <a:chExt cx="1889280" cy="889200"/>
          </a:xfrm>
        </p:grpSpPr>
        <p:sp>
          <p:nvSpPr>
            <p:cNvPr id="165" name=""/>
            <p:cNvSpPr/>
            <p:nvPr/>
          </p:nvSpPr>
          <p:spPr>
            <a:xfrm>
              <a:off x="2058840" y="310752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40160" y="31075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2520" y="276912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169" name="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96480" y="4037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6560" y="5257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4920" y="5257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4120" y="40377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9600" y="15231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6560" y="152316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116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8756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2960" y="1523160"/>
            <a:ext cx="13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offspr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3640" y="248256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86520" y="24825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980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563800" y="2133000"/>
            <a:ext cx="3000960" cy="550800"/>
            <a:chOff x="5563800" y="2133000"/>
            <a:chExt cx="3000960" cy="550800"/>
          </a:xfrm>
        </p:grpSpPr>
        <p:sp>
          <p:nvSpPr>
            <p:cNvPr id="185" name=""/>
            <p:cNvSpPr/>
            <p:nvPr/>
          </p:nvSpPr>
          <p:spPr>
            <a:xfrm>
              <a:off x="5563800" y="21330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6440" y="21330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75000" y="213300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41116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8756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3640" y="362556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86520" y="36255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980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63800" y="3199680"/>
            <a:ext cx="2989440" cy="550800"/>
            <a:chOff x="5563800" y="3199680"/>
            <a:chExt cx="2989440" cy="550800"/>
          </a:xfrm>
        </p:grpSpPr>
        <p:sp>
          <p:nvSpPr>
            <p:cNvPr id="194" name=""/>
            <p:cNvSpPr/>
            <p:nvPr/>
          </p:nvSpPr>
          <p:spPr>
            <a:xfrm>
              <a:off x="5563800" y="31996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16520" y="31996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84720" y="31996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41116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8756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3640" y="583524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86520" y="58352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980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573880" y="5409360"/>
            <a:ext cx="2968560" cy="550800"/>
            <a:chOff x="5573880" y="5409360"/>
            <a:chExt cx="2968560" cy="550800"/>
          </a:xfrm>
        </p:grpSpPr>
        <p:sp>
          <p:nvSpPr>
            <p:cNvPr id="203" name=""/>
            <p:cNvSpPr/>
            <p:nvPr/>
          </p:nvSpPr>
          <p:spPr>
            <a:xfrm>
              <a:off x="5573880" y="5409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16880" y="5409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95520" y="540936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41116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756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3640" y="449532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86520" y="4495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980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24680" y="4952880"/>
            <a:ext cx="53352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9800" y="49971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75320" y="4037760"/>
            <a:ext cx="2736360" cy="550800"/>
            <a:chOff x="5575320" y="4037760"/>
            <a:chExt cx="2736360" cy="550800"/>
          </a:xfrm>
        </p:grpSpPr>
        <p:sp>
          <p:nvSpPr>
            <p:cNvPr id="214" name=""/>
            <p:cNvSpPr/>
            <p:nvPr/>
          </p:nvSpPr>
          <p:spPr>
            <a:xfrm>
              <a:off x="5575320" y="4037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06440" y="403776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27720" y="4038480"/>
              <a:ext cx="183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AEB3-77B4-46A4-B2AB-E10B831727C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hance that 2 or more independent events will occur together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that 2 coins tossed at the same time will land heads up 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x Pp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pp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0066"/>
                </a:solidFill>
                <a:latin typeface="Arial"/>
              </a:rPr>
              <a:t>Rule of multiplication</a:t>
            </a:r>
            <a:endParaRPr b="1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31880" y="5028840"/>
            <a:ext cx="2869200" cy="59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1/2 x 1/2 = 1/4</a:t>
            </a:r>
            <a:endParaRPr b="0" lang="en-US" sz="3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31880" y="3504600"/>
            <a:ext cx="2869200" cy="59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1/2 x 1/2 = 1/4</a:t>
            </a:r>
            <a:endParaRPr b="0" lang="en-US" sz="3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469D-4281-4BA0-AD4B-8C4EAE66750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culating dihybrid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Rule of multiplication also applies to dihybrid cross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terozygous parents —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YyR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producing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yyr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bability of producing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amete =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bability of producing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amete =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/2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bability of producing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amete =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/2 x 1/2 = 1/4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bability of producing a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yr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fspring =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/4 x 1/4 = 1/16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BC61-B6C0-488B-9190-85EA1CF953F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400800" y="4267080"/>
            <a:ext cx="1066680" cy="19814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0066"/>
                </a:solidFill>
                <a:latin typeface="Arial"/>
              </a:rPr>
              <a:t>Rule of addition</a:t>
            </a:r>
            <a:endParaRPr b="1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hance that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 event can occur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 more different way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sum of the separate probabilitie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x Pp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Pp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71600" y="3809160"/>
            <a:ext cx="3886200" cy="2439360"/>
            <a:chOff x="1371600" y="3809160"/>
            <a:chExt cx="3886200" cy="2439360"/>
          </a:xfrm>
        </p:grpSpPr>
        <p:sp>
          <p:nvSpPr>
            <p:cNvPr id="230" name=""/>
            <p:cNvSpPr/>
            <p:nvPr/>
          </p:nvSpPr>
          <p:spPr>
            <a:xfrm>
              <a:off x="1371600" y="4114800"/>
              <a:ext cx="3886200" cy="21337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3809880"/>
              <a:ext cx="3886200" cy="4572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9720" y="3809160"/>
              <a:ext cx="101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76680" y="3809160"/>
              <a:ext cx="677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egg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0128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7768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63080" y="3809160"/>
              <a:ext cx="139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offspring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3760" y="469224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=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76640" y="46922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992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753920" y="4266360"/>
              <a:ext cx="2989440" cy="550800"/>
              <a:chOff x="1753920" y="4266360"/>
              <a:chExt cx="2989440" cy="550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53920" y="426636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08080" y="426636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74840" y="42663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160128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7768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53760" y="568296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=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76640" y="568296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3992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764000" y="5257080"/>
              <a:ext cx="2979360" cy="550800"/>
              <a:chOff x="1764000" y="5257080"/>
              <a:chExt cx="2979360" cy="550800"/>
            </a:xfrm>
          </p:grpSpPr>
          <p:sp>
            <p:nvSpPr>
              <p:cNvPr id="250" name=""/>
              <p:cNvSpPr/>
              <p:nvPr/>
            </p:nvSpPr>
            <p:spPr>
              <a:xfrm>
                <a:off x="1764000" y="52570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96920" y="52570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74840" y="52570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6401520" y="4343040"/>
            <a:ext cx="913680" cy="1709280"/>
            <a:chOff x="6401520" y="4343040"/>
            <a:chExt cx="913680" cy="1709280"/>
          </a:xfrm>
        </p:grpSpPr>
        <p:sp>
          <p:nvSpPr>
            <p:cNvPr id="254" name=""/>
            <p:cNvSpPr/>
            <p:nvPr/>
          </p:nvSpPr>
          <p:spPr>
            <a:xfrm>
              <a:off x="6651360" y="434304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1360" y="491148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1520" y="4952520"/>
              <a:ext cx="3744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51360" y="556236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29400" y="5481720"/>
              <a:ext cx="685800" cy="0"/>
            </a:xfrm>
            <a:prstGeom prst="line">
              <a:avLst/>
            </a:prstGeom>
            <a:ln w="76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334120" y="5181480"/>
            <a:ext cx="838080" cy="38124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0617-645F-4B57-ABE5-5EF61FCD4A00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i-square tes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est to see if your data support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our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are “observed” vs. “expected” data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s variance from expected due to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random chance”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s there another factor influencing data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ll hypo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grees of freedo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atistical significanc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B4AE-B68F-405A-AF89-3552709D6C3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3:49:32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6-01-12T04:13:46Z</cp:lastPrinted>
  <dcterms:modified xsi:type="dcterms:W3CDTF">2006-11-26T17:48:18Z</dcterms:modified>
  <cp:revision>7</cp:revision>
  <dc:subject>AP &amp; Regents Biology</dc:subject>
  <dc:title>Chapter  14.   Probability &amp; Genetics</dc:title>
</cp:coreProperties>
</file>